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9.wmf" ContentType="image/x-wmf"/>
  <Override PartName="/ppt/media/image34.wmf" ContentType="image/x-wmf"/>
  <Override PartName="/ppt/media/image12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AF2-FFF6-4620-AD70-EB1055C9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5B1-39B4-4AE3-B5A8-E676C95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28CB-EDEC-4157-8380-A9AEDD8D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659-27D8-412E-A2AC-33E3EF3A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1A63-65F9-4226-AD1C-CD755448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AE06-9012-4720-B0C5-03874802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CBF4-C308-4210-BE38-75128B1B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7DA2-A113-4E0F-B269-78F39102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780A-157A-4E1C-AE21-F3A354EC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1180-3516-46D2-ACD5-DF31CCF4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207A-08CD-427C-8BEE-D6A81728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6B9-BDFD-4841-9603-FA58498D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3F6A-D321-4F2E-8053-8F5F14E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9134-5D74-4E83-932E-CA990460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0F12-4A48-4AC7-9CEE-89DE1AAB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3556-F35D-4051-85D8-BA99A127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60C3-22CE-402C-B1BF-B30781D4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0E8C-F0B1-4224-92C9-BAC61B27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D540-0AB4-42A8-AB05-10572D6C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26A3B-8C17-4E5D-88A4-AE17E024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FD9B-7680-4679-8FAE-D59F53B7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28BF-1E04-435E-A8FC-0378865E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EB5-7A76-44A7-9D35-86C9DDC4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9D92-1137-4525-B61E-A82A0E8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8CA6-87FB-4B4B-BB13-32397850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C782-989B-4AFE-839B-CBA5C50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5A90-251D-4E90-88E4-6A2020EA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BE05-3A20-4F72-95CF-C2B48FB0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EFB9-99BD-4A16-BAD1-F9AAEBDE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7E8E-0507-46E4-BDB9-09DBEEAF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26E2F-9F5B-4BFC-943E-B557E475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966B-FF45-4930-A87A-F1C3CCB6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9938-2849-42F0-87B9-6529506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57C-8F22-43AB-8148-DA3D450D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35594-F9B9-4CE2-87AD-A302BD2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64CD-0625-4075-987D-2DB0C2CE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DD2E-E4B9-4CB4-916D-11FB165B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7CDE5-C160-442C-94F3-9D160ACB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117A5-4BB6-46A4-8A7B-E015055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DD8A7-CF3E-4D1B-9FD8-125A9CA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C74A-DC8E-4225-AC32-8D49933C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BF78-ACC1-4C82-B87F-A14565EE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0B0AD-AAF0-478B-B135-30770622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B6E-D949-4E52-B567-909AEBD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5250-9287-4B6E-9D51-3710C53A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DA0-B2B6-4966-8566-E8820916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C7E-E116-41DA-B518-7BD96D3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3C6-F933-41F5-987D-C0B2886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682B-0C99-4683-9755-EAAF32826E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B9F5-2ECD-4A10-91C8-EC9009396BE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BBEE-F408-4D43-86CF-02957FBAF4B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7C33-4E43-4173-BF90-1DAFED6BDF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8"/>
          <p:cNvSpPr/>
          <p:nvPr/>
        </p:nvSpPr>
        <p:spPr>
          <a:xfrm>
            <a:off x="228600" y="4877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hit Garhwal and Abhishek Ha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0" y="1363680"/>
            <a:ext cx="9158400" cy="914400"/>
          </a:xfrm>
          <a:prstGeom prst="rect">
            <a:avLst/>
          </a:prstGeom>
          <a:solidFill>
            <a:srgbClr val="dbe7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-19080" y="1347840"/>
            <a:ext cx="9242280" cy="9381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0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dbe7b6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2"/>
          <p:cNvSpPr/>
          <p:nvPr/>
        </p:nvSpPr>
        <p:spPr>
          <a:xfrm>
            <a:off x="0" y="5546880"/>
            <a:ext cx="952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 Systems L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ment of Aerospace Engineering, IIT Kharagp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2" descr="untitled"/>
          <p:cNvPicPr/>
          <p:nvPr/>
        </p:nvPicPr>
        <p:blipFill>
          <a:blip r:embed="rId2"/>
          <a:stretch/>
        </p:blipFill>
        <p:spPr>
          <a:xfrm>
            <a:off x="3932280" y="3124080"/>
            <a:ext cx="1338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5"/>
          <p:cNvSpPr/>
          <p:nvPr/>
        </p:nvSpPr>
        <p:spPr>
          <a:xfrm>
            <a:off x="0" y="11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uzzy Model: Problem Form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0"/>
          <p:cNvSpPr/>
          <p:nvPr/>
        </p:nvSpPr>
        <p:spPr>
          <a:xfrm>
            <a:off x="609480" y="2340000"/>
            <a:ext cx="769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t is desired to determine the optimum fuzzy coefficients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bjective func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ubjected to inequ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6534000" y="2340000"/>
          <a:ext cx="47016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4000" y="2340000"/>
                    <a:ext cx="47016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5"/>
          <p:cNvGraphicFramePr/>
          <p:nvPr/>
        </p:nvGraphicFramePr>
        <p:xfrm>
          <a:off x="3276720" y="3484440"/>
          <a:ext cx="2546280" cy="7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484440"/>
                    <a:ext cx="25462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6"/>
          <p:cNvGraphicFramePr/>
          <p:nvPr/>
        </p:nvGraphicFramePr>
        <p:xfrm>
          <a:off x="3343320" y="4724280"/>
          <a:ext cx="2313000" cy="60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3320" y="4724280"/>
                    <a:ext cx="23130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7"/>
          <p:cNvGraphicFramePr/>
          <p:nvPr/>
        </p:nvGraphicFramePr>
        <p:xfrm>
          <a:off x="3344760" y="5486400"/>
          <a:ext cx="231300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4760" y="5486400"/>
                    <a:ext cx="2313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5"/>
          <p:cNvSpPr/>
          <p:nvPr/>
        </p:nvSpPr>
        <p:spPr>
          <a:xfrm>
            <a:off x="0" y="1295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uzzy Model: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09480" y="2585880"/>
            <a:ext cx="769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inear programming prob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mplex  Algorithm (Big M method with artificial variable approach) was used for constrained optim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prehensive simulation on PSLV-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ta has been carried out using fuzzy adaptive state noise driven EK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ults of this approach are compared with a state noise driven EKF with least square straight line fitting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5"/>
          <p:cNvSpPr/>
          <p:nvPr/>
        </p:nvSpPr>
        <p:spPr>
          <a:xfrm>
            <a:off x="0" y="636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ummary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6"/>
          <p:cNvSpPr/>
          <p:nvPr/>
        </p:nvSpPr>
        <p:spPr>
          <a:xfrm>
            <a:off x="484200" y="1357200"/>
            <a:ext cx="1905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8"/>
          <p:cNvSpPr/>
          <p:nvPr/>
        </p:nvSpPr>
        <p:spPr>
          <a:xfrm>
            <a:off x="1981080" y="3719520"/>
            <a:ext cx="17528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ate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4"/>
          <p:cNvSpPr/>
          <p:nvPr/>
        </p:nvSpPr>
        <p:spPr>
          <a:xfrm>
            <a:off x="1202040" y="446724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zz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ight Brace 25"/>
          <p:cNvSpPr/>
          <p:nvPr/>
        </p:nvSpPr>
        <p:spPr>
          <a:xfrm rot="5400000">
            <a:off x="2566800" y="1576080"/>
            <a:ext cx="533520" cy="365760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3657600"/>
              <a:gd name="textAreaBottom" fmla="*/ 364392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"/>
                  <a:pt x="10800" y="262"/>
                </a:cubicBezTo>
                <a:lnTo>
                  <a:pt x="10800" y="10538"/>
                </a:lnTo>
                <a:cubicBezTo>
                  <a:pt x="10800" y="10669"/>
                  <a:pt x="16200" y="10800"/>
                  <a:pt x="21600" y="10800"/>
                </a:cubicBezTo>
                <a:cubicBezTo>
                  <a:pt x="16200" y="10800"/>
                  <a:pt x="10800" y="10931"/>
                  <a:pt x="10800" y="11062"/>
                </a:cubicBezTo>
                <a:lnTo>
                  <a:pt x="10800" y="21338"/>
                </a:lnTo>
                <a:cubicBezTo>
                  <a:pt x="10800" y="2146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26"/>
          <p:cNvSpPr/>
          <p:nvPr/>
        </p:nvSpPr>
        <p:spPr>
          <a:xfrm>
            <a:off x="6788160" y="4869000"/>
            <a:ext cx="190512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rrector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27"/>
          <p:cNvSpPr/>
          <p:nvPr/>
        </p:nvSpPr>
        <p:spPr>
          <a:xfrm>
            <a:off x="3403440" y="1357200"/>
            <a:ext cx="1905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edictor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28"/>
          <p:cNvSpPr/>
          <p:nvPr/>
        </p:nvSpPr>
        <p:spPr>
          <a:xfrm>
            <a:off x="3379680" y="2728800"/>
            <a:ext cx="1905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edict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29"/>
          <p:cNvSpPr/>
          <p:nvPr/>
        </p:nvSpPr>
        <p:spPr>
          <a:xfrm>
            <a:off x="484200" y="2728800"/>
            <a:ext cx="1905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alculat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3"/>
          <p:cNvSpPr/>
          <p:nvPr/>
        </p:nvSpPr>
        <p:spPr>
          <a:xfrm rot="5400000">
            <a:off x="1013400" y="217260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 rot="16200000">
            <a:off x="7422480" y="427860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3"/>
          <p:cNvSpPr/>
          <p:nvPr/>
        </p:nvSpPr>
        <p:spPr>
          <a:xfrm rot="5400000">
            <a:off x="2460960" y="456156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 rot="5400000">
            <a:off x="2460960" y="562860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3"/>
          <p:cNvSpPr/>
          <p:nvPr/>
        </p:nvSpPr>
        <p:spPr>
          <a:xfrm rot="5400000">
            <a:off x="3974040" y="215172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3"/>
          <p:cNvSpPr/>
          <p:nvPr/>
        </p:nvSpPr>
        <p:spPr>
          <a:xfrm>
            <a:off x="2495520" y="1498680"/>
            <a:ext cx="789120" cy="23976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43"/>
          <p:cNvSpPr/>
          <p:nvPr/>
        </p:nvSpPr>
        <p:spPr>
          <a:xfrm>
            <a:off x="1995480" y="3719520"/>
            <a:ext cx="1752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ate 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4"/>
          <p:cNvSpPr/>
          <p:nvPr/>
        </p:nvSpPr>
        <p:spPr>
          <a:xfrm>
            <a:off x="1932120" y="509112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5"/>
          <p:cNvSpPr/>
          <p:nvPr/>
        </p:nvSpPr>
        <p:spPr>
          <a:xfrm>
            <a:off x="2236680" y="5091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6"/>
          <p:cNvSpPr/>
          <p:nvPr/>
        </p:nvSpPr>
        <p:spPr>
          <a:xfrm>
            <a:off x="2541600" y="5091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7"/>
          <p:cNvSpPr/>
          <p:nvPr/>
        </p:nvSpPr>
        <p:spPr>
          <a:xfrm>
            <a:off x="2846520" y="509112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8"/>
          <p:cNvSpPr/>
          <p:nvPr/>
        </p:nvSpPr>
        <p:spPr>
          <a:xfrm>
            <a:off x="1627200" y="5091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9"/>
          <p:cNvSpPr/>
          <p:nvPr/>
        </p:nvSpPr>
        <p:spPr>
          <a:xfrm>
            <a:off x="1322280" y="5091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0"/>
          <p:cNvSpPr/>
          <p:nvPr/>
        </p:nvSpPr>
        <p:spPr>
          <a:xfrm>
            <a:off x="3151080" y="5091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1"/>
          <p:cNvSpPr/>
          <p:nvPr/>
        </p:nvSpPr>
        <p:spPr>
          <a:xfrm>
            <a:off x="1017720" y="509112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2"/>
          <p:cNvSpPr/>
          <p:nvPr/>
        </p:nvSpPr>
        <p:spPr>
          <a:xfrm>
            <a:off x="3456000" y="5091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3"/>
          <p:cNvSpPr/>
          <p:nvPr/>
        </p:nvSpPr>
        <p:spPr>
          <a:xfrm>
            <a:off x="3760920" y="509112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4"/>
          <p:cNvSpPr/>
          <p:nvPr/>
        </p:nvSpPr>
        <p:spPr>
          <a:xfrm>
            <a:off x="4065480" y="509112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55"/>
          <p:cNvSpPr/>
          <p:nvPr/>
        </p:nvSpPr>
        <p:spPr>
          <a:xfrm>
            <a:off x="1338120" y="6186600"/>
            <a:ext cx="297180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tate Residual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56"/>
          <p:cNvSpPr/>
          <p:nvPr/>
        </p:nvSpPr>
        <p:spPr>
          <a:xfrm>
            <a:off x="2860200" y="556092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7"/>
          <p:cNvSpPr/>
          <p:nvPr/>
        </p:nvSpPr>
        <p:spPr>
          <a:xfrm>
            <a:off x="590040" y="554832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implex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58"/>
          <p:cNvSpPr/>
          <p:nvPr/>
        </p:nvSpPr>
        <p:spPr>
          <a:xfrm>
            <a:off x="5114880" y="4808520"/>
            <a:ext cx="685800" cy="609480"/>
          </a:xfrm>
          <a:prstGeom prst="ellipse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urved Right Arrow 59"/>
          <p:cNvSpPr/>
          <p:nvPr/>
        </p:nvSpPr>
        <p:spPr>
          <a:xfrm rot="13497600">
            <a:off x="4843080" y="5414760"/>
            <a:ext cx="731880" cy="1641240"/>
          </a:xfrm>
          <a:custGeom>
            <a:avLst/>
            <a:gdLst>
              <a:gd name="textAreaLeft" fmla="*/ 97920 w 731880"/>
              <a:gd name="textAreaRight" fmla="*/ 633960 w 731880"/>
              <a:gd name="textAreaTop" fmla="*/ 341640 h 1641240"/>
              <a:gd name="textAreaBottom" fmla="*/ 1208160 h 164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95" stAng="-5400000" swAng="-5400000"/>
                <a:lnTo>
                  <a:pt x="0" y="11402"/>
                </a:lnTo>
                <a:arcTo wR="21600" hR="8995" stAng="10800000" swAng="-3491926"/>
                <a:lnTo>
                  <a:pt x="16200" y="21314"/>
                </a:lnTo>
                <a:lnTo>
                  <a:pt x="21600" y="19193"/>
                </a:lnTo>
                <a:lnTo>
                  <a:pt x="16200" y="16499"/>
                </a:lnTo>
                <a:lnTo>
                  <a:pt x="16200" y="17703"/>
                </a:lnTo>
                <a:arcTo wR="21600" hR="8995" stAng="7308074" swAng="3298848"/>
                <a:lnTo>
                  <a:pt x="194" y="10198"/>
                </a:lnTo>
                <a:arcTo wR="21600" hR="8995" stAng="-10606922" swAng="5206922"/>
                <a:close/>
              </a:path>
              <a:path fill="darkenLess" w="21600" h="21600">
                <a:moveTo>
                  <a:pt x="21600" y="0"/>
                </a:moveTo>
                <a:arcTo wR="21600" hR="8995" stAng="-5400000" swAng="-5400000"/>
                <a:lnTo>
                  <a:pt x="0" y="8995"/>
                </a:lnTo>
                <a:arcTo wR="21600" hR="8995" stAng="10800000" swAng="-193078"/>
                <a:lnTo>
                  <a:pt x="194" y="10198"/>
                </a:lnTo>
                <a:arcTo wR="21600" hR="8995" stAng="-10606922" swAng="5206922"/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urved Left Arrow 60"/>
          <p:cNvSpPr/>
          <p:nvPr/>
        </p:nvSpPr>
        <p:spPr>
          <a:xfrm rot="17692800">
            <a:off x="4534920" y="3200760"/>
            <a:ext cx="780840" cy="1700280"/>
          </a:xfrm>
          <a:custGeom>
            <a:avLst/>
            <a:gdLst>
              <a:gd name="textAreaLeft" fmla="*/ 104400 w 780840"/>
              <a:gd name="textAreaRight" fmla="*/ 676440 w 780840"/>
              <a:gd name="textAreaTop" fmla="*/ 351720 h 1700280"/>
              <a:gd name="textAreaBottom" fmla="*/ 1251000 h 17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40" stAng="-5400000" swAng="5400000"/>
                <a:lnTo>
                  <a:pt x="21600" y="11421"/>
                </a:lnTo>
                <a:arcTo wR="21600" hR="8940" stAng="0" swAng="3482469"/>
                <a:lnTo>
                  <a:pt x="5400" y="21316"/>
                </a:lnTo>
                <a:lnTo>
                  <a:pt x="0" y="19120"/>
                </a:lnTo>
                <a:lnTo>
                  <a:pt x="5400" y="16355"/>
                </a:lnTo>
                <a:lnTo>
                  <a:pt x="5400" y="17595"/>
                </a:lnTo>
                <a:arcTo wR="21600" hR="8940" stAng="3482469" swAng="-3283332"/>
                <a:lnTo>
                  <a:pt x="21391" y="10180"/>
                </a:lnTo>
                <a:arcTo wR="21600" hR="8940" stAng="-199137" swAng="-5200863"/>
                <a:close/>
              </a:path>
              <a:path fill="darkenLess" w="21600" h="21600">
                <a:moveTo>
                  <a:pt x="0" y="0"/>
                </a:moveTo>
                <a:arcTo wR="21600" hR="8940" stAng="-5400000" swAng="5400000"/>
                <a:lnTo>
                  <a:pt x="21600" y="11421"/>
                </a:lnTo>
                <a:arcTo wR="21600" hR="8940" stAng="0" swAng="-199137"/>
                <a:lnTo>
                  <a:pt x="21391" y="10180"/>
                </a:lnTo>
                <a:arcTo wR="21600" hR="8940" stAng="-199137" swAng="-5200863"/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3"/>
          <p:cNvSpPr/>
          <p:nvPr/>
        </p:nvSpPr>
        <p:spPr>
          <a:xfrm>
            <a:off x="5869080" y="4989600"/>
            <a:ext cx="787320" cy="24120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62"/>
          <p:cNvSpPr/>
          <p:nvPr/>
        </p:nvSpPr>
        <p:spPr>
          <a:xfrm>
            <a:off x="6808680" y="3444840"/>
            <a:ext cx="19051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rrecte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 rot="16200000">
            <a:off x="7414560" y="274824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3"/>
          <p:cNvSpPr/>
          <p:nvPr/>
        </p:nvSpPr>
        <p:spPr>
          <a:xfrm rot="10800000">
            <a:off x="5562360" y="1528920"/>
            <a:ext cx="685800" cy="2188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3"/>
          <p:cNvSpPr/>
          <p:nvPr/>
        </p:nvSpPr>
        <p:spPr>
          <a:xfrm rot="16200000">
            <a:off x="7414560" y="182124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 rot="10800000">
            <a:off x="6705360" y="1523520"/>
            <a:ext cx="685800" cy="220680"/>
          </a:xfrm>
          <a:prstGeom prst="pi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83"/>
          <p:cNvSpPr/>
          <p:nvPr/>
        </p:nvSpPr>
        <p:spPr>
          <a:xfrm>
            <a:off x="1336680" y="4952880"/>
            <a:ext cx="3048120" cy="609840"/>
          </a:xfrm>
          <a:prstGeom prst="roundRect">
            <a:avLst>
              <a:gd name="adj" fmla="val 16667"/>
            </a:avLst>
          </a:prstGeom>
          <a:solidFill>
            <a:srgbClr val="7e963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03872 3.33333E-006 E">
                                      <p:cBhvr>
                                        <p:cTn id="13" dur="1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C:\Documents and Settings\rohit\Desktop\IAC\paper\presentation\results\Orbit Parameters Color EMF\Semi-major Axis (a).emf"/>
          <p:cNvPicPr/>
          <p:nvPr/>
        </p:nvPicPr>
        <p:blipFill>
          <a:blip r:embed="rId1"/>
          <a:stretch/>
        </p:blipFill>
        <p:spPr>
          <a:xfrm>
            <a:off x="1096920" y="1641600"/>
            <a:ext cx="7083360" cy="46069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6"/>
          <p:cNvSpPr/>
          <p:nvPr/>
        </p:nvSpPr>
        <p:spPr>
          <a:xfrm>
            <a:off x="3070080" y="63514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Semimajor axis (</a:t>
            </a:r>
            <a:r>
              <a:rPr b="1" i="1" lang="en-US" sz="14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) estimated by E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bi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002040" y="63244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Eccentricity (</a:t>
            </a:r>
            <a:r>
              <a:rPr b="1" i="1" lang="en-US" sz="1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) estimated by E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C:\Documents and Settings\rohit\Desktop\IAC\paper\presentation\results\Orbit Parameters Color EMF\Eccentricity (e).emf"/>
          <p:cNvPicPr/>
          <p:nvPr/>
        </p:nvPicPr>
        <p:blipFill>
          <a:blip r:embed="rId1"/>
          <a:stretch/>
        </p:blipFill>
        <p:spPr>
          <a:xfrm>
            <a:off x="1076400" y="1562040"/>
            <a:ext cx="7102440" cy="46195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bi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2714760" y="6324480"/>
            <a:ext cx="40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Inclina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estimated by E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Documents and Settings\rohit\Desktop\IAC\paper\presentation\results\Orbit Parameters Color EMF\Inclination (i).emf"/>
          <p:cNvPicPr/>
          <p:nvPr/>
        </p:nvPicPr>
        <p:blipFill>
          <a:blip r:embed="rId1"/>
          <a:stretch/>
        </p:blipFill>
        <p:spPr>
          <a:xfrm>
            <a:off x="1052640" y="1550880"/>
            <a:ext cx="7146720" cy="464832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bi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3070080" y="63244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Nodal angl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estimated by E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C:\Documents and Settings\rohit\Desktop\IAC\paper\presentation\results\Orbit Parameters Color EMF\Nodal Angle (OMEGA).emf"/>
          <p:cNvPicPr/>
          <p:nvPr/>
        </p:nvPicPr>
        <p:blipFill>
          <a:blip r:embed="rId1"/>
          <a:stretch/>
        </p:blipFill>
        <p:spPr>
          <a:xfrm>
            <a:off x="961920" y="1523880"/>
            <a:ext cx="7264440" cy="4724640"/>
          </a:xfrm>
          <a:prstGeom prst="rect">
            <a:avLst/>
          </a:prstGeom>
          <a:ln w="0">
            <a:noFill/>
          </a:ln>
        </p:spPr>
      </p:pic>
      <p:sp>
        <p:nvSpPr>
          <p:cNvPr id="370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bi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2714760" y="6324480"/>
            <a:ext cx="40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Argument of perig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estimated by E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Documents and Settings\rohit\Desktop\IAC\paper\presentation\results\Orbit Parameters Color EMF\Argument of Perigee (omega).emf"/>
          <p:cNvPicPr/>
          <p:nvPr/>
        </p:nvPicPr>
        <p:blipFill>
          <a:blip r:embed="rId1"/>
          <a:stretch/>
        </p:blipFill>
        <p:spPr>
          <a:xfrm>
            <a:off x="1120680" y="1585800"/>
            <a:ext cx="7008840" cy="45594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bi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Documents and Settings\rohit\Desktop\IAC\paper\presentation\results\Orbit Parameters Color EMF\omega_distribution_LS.emf"/>
          <p:cNvPicPr/>
          <p:nvPr/>
        </p:nvPicPr>
        <p:blipFill>
          <a:blip r:embed="rId1"/>
          <a:srcRect l="18890" t="0" r="18890" b="0"/>
          <a:stretch/>
        </p:blipFill>
        <p:spPr>
          <a:xfrm>
            <a:off x="228600" y="1600200"/>
            <a:ext cx="4267080" cy="4460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Documents and Settings\rohit\Desktop\IAC\paper\presentation\results\Orbit Parameters Color EMF\omega_distribution_FR.emf"/>
          <p:cNvPicPr/>
          <p:nvPr/>
        </p:nvPicPr>
        <p:blipFill>
          <a:blip r:embed="rId2"/>
          <a:srcRect l="19780" t="0" r="19780" b="0"/>
          <a:stretch/>
        </p:blipFill>
        <p:spPr>
          <a:xfrm>
            <a:off x="4495680" y="1585800"/>
            <a:ext cx="4191120" cy="45100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6"/>
          <p:cNvSpPr/>
          <p:nvPr/>
        </p:nvSpPr>
        <p:spPr>
          <a:xfrm>
            <a:off x="4724280" y="5638680"/>
            <a:ext cx="408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Angular distributio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: FLR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457200" y="5638680"/>
            <a:ext cx="40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Angular distribution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: least square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bi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2714760" y="6324480"/>
            <a:ext cx="40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True anom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 estimated by EK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C:\Documents and Settings\rohit\Desktop\IAC\paper\presentation\results\Orbit Parameters Color EMF\True Anomaly (theta).emf"/>
          <p:cNvPicPr/>
          <p:nvPr/>
        </p:nvPicPr>
        <p:blipFill>
          <a:blip r:embed="rId1"/>
          <a:stretch/>
        </p:blipFill>
        <p:spPr>
          <a:xfrm>
            <a:off x="1084320" y="1625760"/>
            <a:ext cx="7031160" cy="4572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bi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6"/>
          <p:cNvSpPr/>
          <p:nvPr/>
        </p:nvSpPr>
        <p:spPr>
          <a:xfrm>
            <a:off x="3048120" y="914400"/>
            <a:ext cx="28191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l Time Orbit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 rot="5400000">
            <a:off x="3913920" y="2278800"/>
            <a:ext cx="1130400" cy="40824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13"/>
          <p:cNvSpPr/>
          <p:nvPr/>
        </p:nvSpPr>
        <p:spPr>
          <a:xfrm>
            <a:off x="3048120" y="3173400"/>
            <a:ext cx="28191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ded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14"/>
          <p:cNvSpPr/>
          <p:nvPr/>
        </p:nvSpPr>
        <p:spPr>
          <a:xfrm>
            <a:off x="3048120" y="5475240"/>
            <a:ext cx="28191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vergenc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"/>
          <p:cNvSpPr/>
          <p:nvPr/>
        </p:nvSpPr>
        <p:spPr>
          <a:xfrm rot="5400000">
            <a:off x="3906000" y="4566240"/>
            <a:ext cx="1130400" cy="40824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bservation Residual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2714760" y="6324480"/>
            <a:ext cx="40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residual (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C:\Documents and Settings\rohit\Desktop\IAC\paper\presentation\results\Observation Residuals Color EMF\Range Residual (del_rho).emf"/>
          <p:cNvPicPr/>
          <p:nvPr/>
        </p:nvPicPr>
        <p:blipFill>
          <a:blip r:embed="rId1"/>
          <a:stretch/>
        </p:blipFill>
        <p:spPr>
          <a:xfrm>
            <a:off x="1193760" y="1569960"/>
            <a:ext cx="68691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6"/>
          <p:cNvSpPr/>
          <p:nvPr/>
        </p:nvSpPr>
        <p:spPr>
          <a:xfrm>
            <a:off x="2714760" y="6324480"/>
            <a:ext cx="40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rate residua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C:\Documents and Settings\rohit\Desktop\IAC\paper\presentation\results\Observation Residuals Color EMF\Range Rate Residual (del_rho_dot).emf"/>
          <p:cNvPicPr/>
          <p:nvPr/>
        </p:nvPicPr>
        <p:blipFill>
          <a:blip r:embed="rId1"/>
          <a:stretch/>
        </p:blipFill>
        <p:spPr>
          <a:xfrm>
            <a:off x="1025640" y="1523880"/>
            <a:ext cx="7238880" cy="47088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bservation Residual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2714760" y="6324480"/>
            <a:ext cx="40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zimuth residual (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z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C:\Documents and Settings\rohit\Desktop\IAC\paper\presentation\results\Observation Residuals Color EMF\Azimuth Residual (del_Az).emf"/>
          <p:cNvPicPr/>
          <p:nvPr/>
        </p:nvPicPr>
        <p:blipFill>
          <a:blip r:embed="rId1"/>
          <a:stretch/>
        </p:blipFill>
        <p:spPr>
          <a:xfrm>
            <a:off x="1035000" y="1566720"/>
            <a:ext cx="7172280" cy="46641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bservation Residual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2714760" y="6324480"/>
            <a:ext cx="40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vation residual (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l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C:\Documents and Settings\rohit\Desktop\IAC\paper\presentation\results\Observation Residuals Color EMF\Elevation Residual (del_El).emf"/>
          <p:cNvPicPr/>
          <p:nvPr/>
        </p:nvPicPr>
        <p:blipFill>
          <a:blip r:embed="rId1"/>
          <a:stretch/>
        </p:blipFill>
        <p:spPr>
          <a:xfrm>
            <a:off x="1096920" y="1601640"/>
            <a:ext cx="7027920" cy="45705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15"/>
          <p:cNvSpPr/>
          <p:nvPr/>
        </p:nvSpPr>
        <p:spPr>
          <a:xfrm>
            <a:off x="0" y="626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bservation Residuals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0" y="11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609480" y="234000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zzification of state residuals leads to faster convergence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going work: Formulating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based on fuzzy inference rul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-6480" y="2511360"/>
            <a:ext cx="915696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10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dbe7b6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be7b6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6"/>
          <p:cNvSpPr/>
          <p:nvPr/>
        </p:nvSpPr>
        <p:spPr>
          <a:xfrm>
            <a:off x="3048120" y="914400"/>
            <a:ext cx="28191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ise Driven Adaptiv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3"/>
          <p:cNvSpPr/>
          <p:nvPr/>
        </p:nvSpPr>
        <p:spPr>
          <a:xfrm rot="7908600">
            <a:off x="3240360" y="2134080"/>
            <a:ext cx="1130040" cy="40788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13"/>
          <p:cNvSpPr/>
          <p:nvPr/>
        </p:nvSpPr>
        <p:spPr>
          <a:xfrm>
            <a:off x="914400" y="281952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ructural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14"/>
          <p:cNvSpPr/>
          <p:nvPr/>
        </p:nvSpPr>
        <p:spPr>
          <a:xfrm>
            <a:off x="3809880" y="4648320"/>
            <a:ext cx="213372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ise Model based on observation residu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8"/>
          <p:cNvSpPr/>
          <p:nvPr/>
        </p:nvSpPr>
        <p:spPr>
          <a:xfrm>
            <a:off x="4952880" y="28116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atistical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3"/>
          <p:cNvSpPr/>
          <p:nvPr/>
        </p:nvSpPr>
        <p:spPr>
          <a:xfrm rot="2808000">
            <a:off x="4690080" y="2140560"/>
            <a:ext cx="1130400" cy="40788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 rot="7908600">
            <a:off x="5069520" y="3810600"/>
            <a:ext cx="1130400" cy="40788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 rot="2983800">
            <a:off x="6661440" y="3864600"/>
            <a:ext cx="1130400" cy="40788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17"/>
          <p:cNvSpPr/>
          <p:nvPr/>
        </p:nvSpPr>
        <p:spPr>
          <a:xfrm>
            <a:off x="6858000" y="4648320"/>
            <a:ext cx="213372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ise Model based on state residu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0"/>
          <p:cNvSpPr/>
          <p:nvPr/>
        </p:nvSpPr>
        <p:spPr>
          <a:xfrm>
            <a:off x="6858000" y="4648320"/>
            <a:ext cx="2057400" cy="1600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0" y="10630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rocess noise covariance matrix Q formu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762120" y="2362320"/>
            <a:ext cx="7619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amping analogy : Spring mas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zzification of the state residu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zzy linear regression is used to compute of the slope of state res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alman filter being stochastic estimator captures the probabilistic aspect of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zzy formulation aids in capturing the possibilistic n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2"/>
          <p:cNvGraphicFramePr/>
          <p:nvPr/>
        </p:nvGraphicFramePr>
        <p:xfrm>
          <a:off x="1066680" y="2819520"/>
          <a:ext cx="236232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23623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6"/>
          <p:cNvSpPr/>
          <p:nvPr/>
        </p:nvSpPr>
        <p:spPr>
          <a:xfrm>
            <a:off x="914400" y="990720"/>
            <a:ext cx="28195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ended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3"/>
          <p:cNvSpPr/>
          <p:nvPr/>
        </p:nvSpPr>
        <p:spPr>
          <a:xfrm rot="5400000">
            <a:off x="1924200" y="2342160"/>
            <a:ext cx="1130400" cy="40788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13"/>
          <p:cNvSpPr/>
          <p:nvPr/>
        </p:nvSpPr>
        <p:spPr>
          <a:xfrm>
            <a:off x="990720" y="3200400"/>
            <a:ext cx="304776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babilistic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8"/>
          <p:cNvSpPr/>
          <p:nvPr/>
        </p:nvSpPr>
        <p:spPr>
          <a:xfrm>
            <a:off x="5638680" y="3200400"/>
            <a:ext cx="304812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ssibilistic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7828200">
            <a:off x="5201280" y="4232880"/>
            <a:ext cx="1130400" cy="40788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 rot="2983800">
            <a:off x="3309120" y="4209120"/>
            <a:ext cx="1130400" cy="40824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15"/>
          <p:cNvSpPr/>
          <p:nvPr/>
        </p:nvSpPr>
        <p:spPr>
          <a:xfrm>
            <a:off x="5638680" y="990720"/>
            <a:ext cx="28195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uzzy for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 rot="5400000">
            <a:off x="6469200" y="2342160"/>
            <a:ext cx="1130400" cy="407880"/>
          </a:xfrm>
          <a:prstGeom prst="pie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19"/>
          <p:cNvSpPr/>
          <p:nvPr/>
        </p:nvSpPr>
        <p:spPr>
          <a:xfrm>
            <a:off x="3505320" y="5105520"/>
            <a:ext cx="281916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ster &amp; Better Conver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5"/>
          <p:cNvSpPr/>
          <p:nvPr/>
        </p:nvSpPr>
        <p:spPr>
          <a:xfrm>
            <a:off x="0" y="11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uzzy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438120" y="23623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uzzy linear regression (FLR) eq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pendent variable (       ) and regression constants (      , </a:t>
            </a:r>
            <a:r>
              <a:rPr b="0" i="1" lang="en-US" sz="18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,1,2,3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…) are assumed to be fuz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me being independent variable is cr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ch of the fuzzy constants are assumed to be represented by a symmetric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7"/>
          <p:cNvGraphicFramePr/>
          <p:nvPr/>
        </p:nvGraphicFramePr>
        <p:xfrm>
          <a:off x="2130480" y="2895480"/>
          <a:ext cx="53341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2895480"/>
                    <a:ext cx="5334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8"/>
          <p:cNvGraphicFramePr/>
          <p:nvPr/>
        </p:nvGraphicFramePr>
        <p:xfrm>
          <a:off x="2854440" y="3713040"/>
          <a:ext cx="488880" cy="3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4440" y="3713040"/>
                    <a:ext cx="4888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9"/>
          <p:cNvGraphicFramePr/>
          <p:nvPr/>
        </p:nvGraphicFramePr>
        <p:xfrm>
          <a:off x="6014880" y="3687840"/>
          <a:ext cx="30492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4880" y="3687840"/>
                    <a:ext cx="304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Box 14"/>
          <p:cNvSpPr/>
          <p:nvPr/>
        </p:nvSpPr>
        <p:spPr>
          <a:xfrm>
            <a:off x="7945560" y="297180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5"/>
          <p:cNvSpPr/>
          <p:nvPr/>
        </p:nvSpPr>
        <p:spPr>
          <a:xfrm>
            <a:off x="0" y="11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uzzy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533520" y="2362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riangular membership function  for regression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9"/>
          <p:cNvCxnSpPr/>
          <p:nvPr/>
        </p:nvCxnSpPr>
        <p:spPr>
          <a:xfrm>
            <a:off x="3048120" y="5334120"/>
            <a:ext cx="27439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54" name="Straight Arrow Connector 13"/>
          <p:cNvCxnSpPr/>
          <p:nvPr/>
        </p:nvCxnSpPr>
        <p:spPr>
          <a:xfrm flipV="1">
            <a:off x="3273840" y="3125160"/>
            <a:ext cx="3960" cy="243900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55" name="Isosceles Triangle 30"/>
          <p:cNvSpPr/>
          <p:nvPr/>
        </p:nvSpPr>
        <p:spPr>
          <a:xfrm>
            <a:off x="3809880" y="3809880"/>
            <a:ext cx="1460520" cy="1524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2"/>
          <p:cNvSpPr/>
          <p:nvPr/>
        </p:nvSpPr>
        <p:spPr>
          <a:xfrm>
            <a:off x="4537800" y="3811680"/>
            <a:ext cx="1800" cy="1523880"/>
          </a:xfrm>
          <a:prstGeom prst="line">
            <a:avLst/>
          </a:prstGeom>
          <a:ln w="9360">
            <a:solidFill>
              <a:srgbClr val="06509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35"/>
          <p:cNvSpPr/>
          <p:nvPr/>
        </p:nvSpPr>
        <p:spPr>
          <a:xfrm flipH="1" flipV="1">
            <a:off x="3278160" y="3808080"/>
            <a:ext cx="1262160" cy="3240"/>
          </a:xfrm>
          <a:prstGeom prst="line">
            <a:avLst/>
          </a:prstGeom>
          <a:ln w="9360">
            <a:solidFill>
              <a:srgbClr val="065093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8"/>
          <p:cNvSpPr/>
          <p:nvPr/>
        </p:nvSpPr>
        <p:spPr>
          <a:xfrm>
            <a:off x="4415760" y="5257800"/>
            <a:ext cx="33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9"/>
          <p:cNvSpPr/>
          <p:nvPr/>
        </p:nvSpPr>
        <p:spPr>
          <a:xfrm>
            <a:off x="2994480" y="3654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0"/>
          <p:cNvSpPr/>
          <p:nvPr/>
        </p:nvSpPr>
        <p:spPr>
          <a:xfrm>
            <a:off x="2973960" y="533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42"/>
          <p:cNvCxnSpPr/>
          <p:nvPr/>
        </p:nvCxnSpPr>
        <p:spPr>
          <a:xfrm>
            <a:off x="3809880" y="5707080"/>
            <a:ext cx="152496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headEnd len="med" type="arrow" w="med"/>
            <a:tailEnd len="med" type="arrow" w="med"/>
          </a:ln>
        </p:spPr>
      </p:cxnSp>
      <p:sp>
        <p:nvSpPr>
          <p:cNvPr id="262" name="Rectangle 44"/>
          <p:cNvSpPr/>
          <p:nvPr/>
        </p:nvSpPr>
        <p:spPr>
          <a:xfrm>
            <a:off x="4425120" y="5715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5"/>
          <p:cNvGraphicFramePr/>
          <p:nvPr/>
        </p:nvGraphicFramePr>
        <p:xfrm>
          <a:off x="2395440" y="4189320"/>
          <a:ext cx="647640" cy="3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5440" y="4189320"/>
                    <a:ext cx="6476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Box 45"/>
          <p:cNvSpPr/>
          <p:nvPr/>
        </p:nvSpPr>
        <p:spPr>
          <a:xfrm>
            <a:off x="3048120" y="601992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Fig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. Membership function fo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5570640" y="5997600"/>
          <a:ext cx="230040" cy="35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70640" y="5997600"/>
                    <a:ext cx="2300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5"/>
          <p:cNvSpPr/>
          <p:nvPr/>
        </p:nvSpPr>
        <p:spPr>
          <a:xfrm>
            <a:off x="0" y="11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uzzy Model: Problem Form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533520" y="2362320"/>
            <a:ext cx="769608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alytic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ch regression coefficient        is represented by a set (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refore, eq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 can be writte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2736720" y="2754360"/>
          <a:ext cx="198144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6720" y="2754360"/>
                    <a:ext cx="19814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7"/>
          <p:cNvGraphicFramePr/>
          <p:nvPr/>
        </p:nvGraphicFramePr>
        <p:xfrm>
          <a:off x="5391000" y="2805120"/>
          <a:ext cx="160812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1000" y="2805120"/>
                    <a:ext cx="16081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Box 22"/>
          <p:cNvSpPr/>
          <p:nvPr/>
        </p:nvSpPr>
        <p:spPr>
          <a:xfrm>
            <a:off x="5040720" y="2792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3"/>
          <p:cNvSpPr/>
          <p:nvPr/>
        </p:nvSpPr>
        <p:spPr>
          <a:xfrm>
            <a:off x="5038920" y="33177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therw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3521160" y="3949560"/>
          <a:ext cx="30456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1160" y="3949560"/>
                    <a:ext cx="304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Box 25"/>
          <p:cNvSpPr/>
          <p:nvPr/>
        </p:nvSpPr>
        <p:spPr>
          <a:xfrm>
            <a:off x="7700760" y="31240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9"/>
          <p:cNvGraphicFramePr/>
          <p:nvPr/>
        </p:nvGraphicFramePr>
        <p:xfrm>
          <a:off x="2666880" y="5410080"/>
          <a:ext cx="4343400" cy="38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410080"/>
                    <a:ext cx="4343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Box 27"/>
          <p:cNvSpPr/>
          <p:nvPr/>
        </p:nvSpPr>
        <p:spPr>
          <a:xfrm>
            <a:off x="7704000" y="540864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4"/>
          <p:cNvSpPr/>
          <p:nvPr/>
        </p:nvSpPr>
        <p:spPr>
          <a:xfrm>
            <a:off x="5638680" y="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ptember 24-28, 20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yderabad,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-171360" y="1440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nternational Astronautical Con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0" y="1154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uzzy Model: Problem Form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0"/>
          <p:cNvSpPr/>
          <p:nvPr/>
        </p:nvSpPr>
        <p:spPr>
          <a:xfrm>
            <a:off x="533520" y="2362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mbership functi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5"/>
          <p:cNvSpPr/>
          <p:nvPr/>
        </p:nvSpPr>
        <p:spPr>
          <a:xfrm>
            <a:off x="7777080" y="43434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6"/>
          <p:cNvGraphicFramePr/>
          <p:nvPr/>
        </p:nvGraphicFramePr>
        <p:xfrm>
          <a:off x="3422520" y="2301840"/>
          <a:ext cx="422280" cy="3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2520" y="2301840"/>
                    <a:ext cx="422280" cy="3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8"/>
          <p:cNvGraphicFramePr/>
          <p:nvPr/>
        </p:nvGraphicFramePr>
        <p:xfrm>
          <a:off x="2514600" y="3263760"/>
          <a:ext cx="4411800" cy="252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263760"/>
                    <a:ext cx="441180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5T03:45:01Z</dcterms:created>
  <dc:creator>rohit</dc:creator>
  <dc:description/>
  <dc:language>en-US</dc:language>
  <cp:lastModifiedBy>Abhishek</cp:lastModifiedBy>
  <dcterms:modified xsi:type="dcterms:W3CDTF">2010-10-01T22:23:02Z</dcterms:modified>
  <cp:revision>255</cp:revision>
  <dc:subject/>
  <dc:title>Slide 1</dc:title>
</cp:coreProperties>
</file>